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12.png" ContentType="image/png"/>
  <Override PartName="/ppt/media/image9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84E9-CFE8-4492-B3C4-65D9896BB2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183B5079-0AF2-4F7F-98A6-8B0BD9E4B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EA44-9399-4412-B835-9EF8A56E6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B460AE4-D5BC-436D-B3C6-4DFA346CD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0DC879F3-6C6F-4ED7-93D5-8DA3F5C36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9678FB4-7A9C-42BE-AE96-2E8A5B5FD9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66E8551-30A9-44F2-8A5F-46C294F89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1E52437-33F6-4455-A7AC-2EC4279E2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CC3B868-6F5C-4933-835B-45999A402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B7F4773-4C6B-407A-B0E1-C858F58F62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D9C00E0B-74C3-4987-8DD1-8C1643874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27E1A-CBBC-4FFD-BDFF-D83A6818C3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903EC-6D87-448A-8123-E950BB3B56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388B5-7FA8-4511-A825-EC0317293C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87D10-6B04-41FC-9168-AF0DD7C03A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6648-FFB7-4552-AD38-15229A1F24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1DA4-775D-44A9-801B-E7B2D571CC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32F0-D6EA-483E-A1D2-07EAA41573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6451-9349-4B2B-BE12-5C675DEA3E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A5FA-3599-45DE-B057-80E55BF885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3CCA-D9BA-492B-8068-36BD918DDD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CDFD-8823-44C8-B74E-B14B9A72FD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FAFC5-C761-49E5-86E8-1507CD4938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0EAA-DF3B-4DBB-B6C7-AB9CBCE2B7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886C-B3D9-4DA0-A1A8-D3CEA7E639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2FCB-6643-4AE1-A205-F3172CF2E8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3BFB-312D-4225-B06B-109274403D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F16F-415E-4CE3-BBAF-25C337D962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BD820-1411-4EA7-8A93-B98D05BA2C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A4260-EF34-4490-87F2-D4D40C35EA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C4057-E5B3-41FA-B4C1-BDFCFF497D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92622-D5DC-44C5-A1D1-F38CABC74A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AB278-28FE-44DE-B48F-695676A998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1EC08-A14F-4F80-A727-186F83B5CD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74D6E-EF6E-4011-BAC4-A49F116999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FF2D-C8C7-4C3E-8C9F-534DC96B2D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7EC8-0FC8-464C-B529-5BE3A3A901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B226-99EE-47DD-B192-C295899216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2819520" y="1676520"/>
            <a:ext cx="6172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нтроль</a:t>
            </a: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 процессов: Введение 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контроль кач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6315-D9CB-4BA1-8259-4E6C357926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552240"/>
            <a:ext cx="5715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К – 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536480"/>
            <a:ext cx="8229600" cy="34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ая часть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цель – выявить и исправить ошибки до выдачи результатов анализов пац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 разные методы для количественных, качественных и полуколичественных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0AD1-CBE1-45D5-87A1-9110046BF9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5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25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26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26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26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27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27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27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28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28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29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29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30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30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30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C4B8-3B8B-423D-A7A9-7C43DCB4E9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Arial"/>
              </a:rPr>
              <a:t>Цели изучения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298520"/>
            <a:ext cx="845820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ть определение контролю качества и объяснить его связь с системой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ъяснить, чем различаются количественные, качественные и полуколичественные исследования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E210-7AE7-47AD-B31A-58F78B4793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37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3ECC-1B9C-4B32-9E71-0599756BE7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1371240"/>
            <a:ext cx="7772400" cy="50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троль качества (КК)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это часть управления качеством, нацеленная на выполнение требований по качеству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ISO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9000:2000 (3.4.10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К исследует «контрольные» материалы  известных веществ параллельно с пробами пациентов для контроля правильности и воспроизводимости всего процесса исследования (анализа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95DA-1F15-47D5-8444-F7E30BDE8B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Content Placeholder 2"/>
          <p:cNvSpPr/>
          <p:nvPr/>
        </p:nvSpPr>
        <p:spPr>
          <a:xfrm>
            <a:off x="380880" y="1828800"/>
            <a:ext cx="838224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Целью КК </a:t>
            </a: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является выявление ошибок и их исправ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до выда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результатов анализов пациен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312F-1D92-44A1-9C16-DF30386ADD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399600"/>
            <a:ext cx="83818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личественные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160" y="1206000"/>
            <a:ext cx="7467480" cy="10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змеряют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количество определенного вещества в пробе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7" name="Group 21"/>
          <p:cNvGrpSpPr/>
          <p:nvPr/>
        </p:nvGrpSpPr>
        <p:grpSpPr>
          <a:xfrm>
            <a:off x="609480" y="4114800"/>
            <a:ext cx="1828800" cy="1447560"/>
            <a:chOff x="609480" y="4114800"/>
            <a:chExt cx="1828800" cy="1447560"/>
          </a:xfrm>
        </p:grpSpPr>
        <p:grpSp>
          <p:nvGrpSpPr>
            <p:cNvPr id="208" name="Group 18"/>
            <p:cNvGrpSpPr/>
            <p:nvPr/>
          </p:nvGrpSpPr>
          <p:grpSpPr>
            <a:xfrm>
              <a:off x="609480" y="4114800"/>
              <a:ext cx="1828800" cy="1447560"/>
              <a:chOff x="609480" y="4114800"/>
              <a:chExt cx="1828800" cy="1447560"/>
            </a:xfrm>
          </p:grpSpPr>
          <p:sp>
            <p:nvSpPr>
              <p:cNvPr id="209" name="AutoShape 6"/>
              <p:cNvSpPr/>
              <p:nvPr/>
            </p:nvSpPr>
            <p:spPr>
              <a:xfrm>
                <a:off x="838080" y="457200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7"/>
              <p:cNvSpPr/>
              <p:nvPr/>
            </p:nvSpPr>
            <p:spPr>
              <a:xfrm>
                <a:off x="609480" y="449568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1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11480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Rectangle 17"/>
              <p:cNvSpPr/>
              <p:nvPr/>
            </p:nvSpPr>
            <p:spPr>
              <a:xfrm>
                <a:off x="2133360" y="426708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AutoShape 19"/>
            <p:cNvSpPr/>
            <p:nvPr/>
          </p:nvSpPr>
          <p:spPr>
            <a:xfrm>
              <a:off x="1257120" y="5105160"/>
              <a:ext cx="533520" cy="3049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04920"/>
                <a:gd name="textAreaBottom" fmla="*/ 10944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5400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20"/>
            <p:cNvSpPr/>
            <p:nvPr/>
          </p:nvSpPr>
          <p:spPr>
            <a:xfrm flipH="1" flipV="1">
              <a:off x="1447560" y="525744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5" name="Picture 47" descr="Beaker"/>
          <p:cNvPicPr/>
          <p:nvPr/>
        </p:nvPicPr>
        <p:blipFill>
          <a:blip r:embed="rId2"/>
          <a:stretch/>
        </p:blipFill>
        <p:spPr>
          <a:xfrm>
            <a:off x="7010280" y="4635360"/>
            <a:ext cx="1322640" cy="1384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494600"/>
            <a:ext cx="2203560" cy="19836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4"/>
          <p:cNvSpPr/>
          <p:nvPr/>
        </p:nvSpPr>
        <p:spPr>
          <a:xfrm>
            <a:off x="533520" y="242712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Измерения должны быть точными и воспроизводим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8" descr="10040_lores"/>
          <p:cNvPicPr/>
          <p:nvPr/>
        </p:nvPicPr>
        <p:blipFill>
          <a:blip r:embed="rId4"/>
          <a:stretch/>
        </p:blipFill>
        <p:spPr>
          <a:xfrm>
            <a:off x="2666880" y="3675240"/>
            <a:ext cx="3962520" cy="264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BA74-6D85-4E89-9D63-4BE58B8281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400" spc="-1" strike="noStrike">
                <a:solidFill>
                  <a:srgbClr val="00007d"/>
                </a:solidFill>
                <a:latin typeface="Verdana"/>
              </a:rPr>
              <a:t>Качественные методы исследования</a:t>
            </a:r>
            <a:endParaRPr b="0" lang="en-US" sz="3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62000" y="1143000"/>
            <a:ext cx="5857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сследования, не дающие результатов в цифрах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личие или отсутствие рос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ожительный или отрицательны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ктивный или не реактивны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менение цв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8" descr="qc_growth_poor_growth_cdc"/>
          <p:cNvPicPr/>
          <p:nvPr/>
        </p:nvPicPr>
        <p:blipFill>
          <a:blip r:embed="rId1"/>
          <a:stretch/>
        </p:blipFill>
        <p:spPr>
          <a:xfrm>
            <a:off x="5934240" y="1701720"/>
            <a:ext cx="2415960" cy="16178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pos_neg-urease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319560"/>
            <a:ext cx="2397240" cy="1700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0" descr="qc_pos_neg_latex_agglut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514600" cy="13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D905-0C18-4276-BE86-F68EE482FE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400" spc="-1" strike="noStrike">
                <a:solidFill>
                  <a:srgbClr val="00007d"/>
                </a:solidFill>
                <a:latin typeface="Verdana"/>
              </a:rPr>
              <a:t>Полуколичественные методы исследования</a:t>
            </a:r>
            <a:endParaRPr b="0" lang="en-US" sz="3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6840" y="2106360"/>
            <a:ext cx="8434440" cy="37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зультаты выражены в виде оценки количества вещества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следы»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умерено» или «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1+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»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2+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»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ли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3+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личество клеток в поле зр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тры и разведения в серологических тест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17F1-77A0-4349-811F-9FF2BF0084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Diagram 2"/>
          <p:cNvGrpSpPr/>
          <p:nvPr/>
        </p:nvGrpSpPr>
        <p:grpSpPr>
          <a:xfrm>
            <a:off x="379440" y="760320"/>
            <a:ext cx="8303400" cy="5411520"/>
            <a:chOff x="379440" y="760320"/>
            <a:chExt cx="8303400" cy="5411520"/>
          </a:xfrm>
        </p:grpSpPr>
        <p:sp>
          <p:nvSpPr>
            <p:cNvPr id="233" name="_s1028"/>
            <p:cNvSpPr/>
            <p:nvPr/>
          </p:nvSpPr>
          <p:spPr>
            <a:xfrm flipH="1">
              <a:off x="2556000" y="3351240"/>
              <a:ext cx="10209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29"/>
            <p:cNvSpPr/>
            <p:nvPr/>
          </p:nvSpPr>
          <p:spPr>
            <a:xfrm>
              <a:off x="379440" y="2664360"/>
              <a:ext cx="2439360" cy="13737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Проверяйте данны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К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30"/>
            <p:cNvSpPr/>
            <p:nvPr/>
          </p:nvSpPr>
          <p:spPr>
            <a:xfrm>
              <a:off x="4723560" y="4188960"/>
              <a:ext cx="0" cy="686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31"/>
            <p:cNvSpPr/>
            <p:nvPr/>
          </p:nvSpPr>
          <p:spPr>
            <a:xfrm>
              <a:off x="3505320" y="4809960"/>
              <a:ext cx="2427120" cy="1361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Обеспечьт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полную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документацию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32"/>
            <p:cNvSpPr/>
            <p:nvPr/>
          </p:nvSpPr>
          <p:spPr>
            <a:xfrm>
              <a:off x="5837400" y="3351240"/>
              <a:ext cx="10209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33"/>
            <p:cNvSpPr/>
            <p:nvPr/>
          </p:nvSpPr>
          <p:spPr>
            <a:xfrm>
              <a:off x="6780960" y="2664360"/>
              <a:ext cx="1901880" cy="13737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Обучит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вес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персон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34"/>
            <p:cNvSpPr/>
            <p:nvPr/>
          </p:nvSpPr>
          <p:spPr>
            <a:xfrm flipV="1">
              <a:off x="4723560" y="1907280"/>
              <a:ext cx="0" cy="686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1035"/>
            <p:cNvSpPr/>
            <p:nvPr/>
          </p:nvSpPr>
          <p:spPr>
            <a:xfrm>
              <a:off x="2630520" y="760320"/>
              <a:ext cx="3615480" cy="13737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Разработайт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задокументирован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правила 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процеду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1036"/>
            <p:cNvSpPr/>
            <p:nvPr/>
          </p:nvSpPr>
          <p:spPr>
            <a:xfrm>
              <a:off x="3577320" y="2594160"/>
              <a:ext cx="2041920" cy="13737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AutoShape 17"/>
          <p:cNvSpPr/>
          <p:nvPr/>
        </p:nvSpPr>
        <p:spPr>
          <a:xfrm>
            <a:off x="6348240" y="1066680"/>
            <a:ext cx="738360" cy="609840"/>
          </a:xfrm>
          <a:custGeom>
            <a:avLst/>
            <a:gdLst>
              <a:gd name="textAreaLeft" fmla="*/ 115200 w 738360"/>
              <a:gd name="textAreaRight" fmla="*/ 646200 w 73836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8"/>
          <p:cNvSpPr/>
          <p:nvPr/>
        </p:nvSpPr>
        <p:spPr>
          <a:xfrm>
            <a:off x="7162920" y="781200"/>
            <a:ext cx="16002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включите корректи-рующие 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3048120" y="2514600"/>
            <a:ext cx="3352680" cy="16747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Эта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программы К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Olga</cp:lastModifiedBy>
  <dcterms:modified xsi:type="dcterms:W3CDTF">2013-05-11T12:50:46Z</dcterms:modified>
  <cp:revision>57</cp:revision>
  <dc:subject/>
  <dc:title>Quality Control Overview</dc:title>
</cp:coreProperties>
</file>